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72B42-53AA-405F-95B6-D96F8CE313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A8704-6388-426E-9638-BC9C977932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965EA-EA1E-447B-A2CD-A02E026F1E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5A6CE-892D-4E41-BB4F-493F5F39D83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C9D21-E9EC-40DF-8321-5B5B91E72C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4B85A-E3A2-4EBC-8137-69A4731BA5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A1E2B-141D-40DE-8143-466A44DA81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2EAF4-A8F3-4B0F-9034-51B39442BE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2C068-BBB3-41F8-B4FF-5F51283F78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85162-B62E-450E-AB8C-B222ED76CB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4FD15-0A33-4A66-A667-CEDAF66815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104D-15BB-4459-B5BB-820F90EAE7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3888D-50EE-4BEB-BB45-1D9D05940A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6DDA2-A1AA-4162-81C5-77046B7EFD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BE1C5-3B53-44C6-B3D3-509352F9AE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2AB9C-B550-48FB-83B9-AB9E0460EA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C3450-46B9-4239-858C-15A8DD2691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54196-2B02-4B64-80AC-7369212763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DAD88-6988-4E13-AAF7-49EA6829EB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4A81-648F-4827-87B8-F8EFC10D3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69A6-D015-4C8B-B775-DD7AE50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F0A8-4C75-4AA8-BECD-564B591B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473A-5880-4966-BBEA-B2891A7EE5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1324-CD86-4831-A2BC-32A12E31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E649-F4F1-4A73-91BC-553D8A72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D658-687E-4CDC-82F5-E03B488C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1C0C-384A-4F8F-8580-5B344D37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43DC-4C0A-4FF5-B560-5C291C53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E42C-C8E6-4D7D-AFF6-51F6AF9F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DA50-E4D7-4B5C-BA74-A04E15A3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9419-B3D9-4229-A612-A45A41AB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CA6503-6E95-409C-9977-9E37F25B35F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3600360" y="4427640"/>
            <a:ext cx="2124000" cy="2087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1413000"/>
            <a:ext cx="8172360" cy="32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ro es un animal acostumbrado a vivir en man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erro mal adiestrado tratará de asumir el rol de lí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adiestrar adecuadamente a un perro, debes asumir el rol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íder, lo cual impl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Auto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eguridad y determi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vez el perro note que tu le lideras, asumirá su rol en la manada, y, libre de las responsabilidades de ser el líder, será un perro más feli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984480" y="3886200"/>
            <a:ext cx="1619280" cy="2519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971640" y="1419120"/>
            <a:ext cx="748800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salir de ca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aca a tu perro siempre atado, con su collar y una correa no muy larg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al de casa siempre tú primero (no permitas que salga antes que tú) y sólo cuando el perro muestre tranqu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l perro debe ir a tu lado, pero un poco por detrás (no lo lleves “dando tirones”). Mantenlo ahí usando la corr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71640" y="1419120"/>
            <a:ext cx="748800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ta el paso a tu perro con seguridad si pretende atacar a otro perro o a un vecino, o si pretende salir primero de ca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émiale cuando lo haga bi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2160720" y="3240000"/>
            <a:ext cx="51688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71640" y="141912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igna al perro un lugar para poner su comida y para dorm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260360" y="2519280"/>
            <a:ext cx="7047000" cy="34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1419120"/>
            <a:ext cx="748800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 de comer al perro siempre después de tí y solo su com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es necesario, haz que te vea comer algo antes de ponerle la com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3240000" y="2879640"/>
            <a:ext cx="3140280" cy="31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816280" y="3216240"/>
            <a:ext cx="3951360" cy="3336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971640" y="1419120"/>
            <a:ext cx="748800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quieras corregir un comportamiento no deseab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Corrige siempre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  <a:ea typeface="Geneva"/>
              </a:rPr>
              <a:t> en el momen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con u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  <a:ea typeface="Geneva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enérgico; si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 haces a destiempo no sabrá lo que quie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i no acata la autoridad, no hace falta gritar ni golpear: bastará con poner tu mano tensa en su cuel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71640" y="1419120"/>
            <a:ext cx="777708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mia todos los comportamientos deseables con caricia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cara y palabras sua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casionalmente, utiliza golosinas para per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3191040" y="3060720"/>
            <a:ext cx="2928600" cy="26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141912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recuerda: tu perro es tu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3191040" y="3060720"/>
            <a:ext cx="2928600" cy="26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luis</cp:lastModifiedBy>
  <dcterms:modified xsi:type="dcterms:W3CDTF">2012-10-28T09:48:03Z</dcterms:modified>
  <cp:revision>44</cp:revision>
  <dc:subject/>
  <dc:title>Diapositiva 1</dc:title>
</cp:coreProperties>
</file>